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841-0F7E-4316-88E9-56559FF5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7F5-32C2-4ECB-813B-40ECB64F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AA6-611F-4399-B179-9319C461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3AD-1A12-4191-8563-C04BEBA3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208-653D-413D-BA5F-FEB8BF61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673-1813-4298-8B8C-6C77635D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93F-6F42-423A-9EC4-8B6BC05A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F96-26B2-4368-8074-0BD43655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30C-EC18-4E22-BF03-564158A9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2A6-93F7-4EBA-B9F3-E332F33E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6BE-4DBB-47FA-8BC5-736FCFF5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985-ECA8-4D92-9B1D-8D9F30DA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71DF-3494-4FCD-AE8B-E665DAE1A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alabama.shtml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enchantedlearning.com/usa/states/alabama/" TargetMode="External"/><Relationship Id="rId4" Type="http://schemas.openxmlformats.org/officeDocument/2006/relationships/hyperlink" Target="http://www.jewelrymall.com/cgibin/xlinker.cgi?loc=131&amp;lf=131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6400" y="30492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la Knud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0"/>
            <a:ext cx="4138560" cy="24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abam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60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:Montgom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 : we dare defend our r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the Union : 12/14/18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 :Cotton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Flower :Camel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Bird : Yellowh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song : Alab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 name : tribal t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:4,447,1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 : State Blue Qu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685800"/>
            <a:ext cx="231300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962520"/>
            <a:ext cx="2971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aba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2/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alabam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990720"/>
            <a:ext cx="2038320" cy="1952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9718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State Jewel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wel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l http://www.jewelrymall.com/stategems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tes capitol is Montgom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3049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52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retty stone from Alab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All images Copyright © 1997 - 2000 WriteLine. All Rights Reserved."/>
          <p:cNvPicPr/>
          <p:nvPr/>
        </p:nvPicPr>
        <p:blipFill>
          <a:blip r:embed="rId2"/>
          <a:stretch/>
        </p:blipFill>
        <p:spPr>
          <a:xfrm>
            <a:off x="4114800" y="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81080" y="274320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nton  M. Blount Alabama 4/13/12 http://www.postcardsfrom.com/t1/arcin.htm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380052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33526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31240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Alabama,4/13/12, http://www.EnchantedLearning.com/usa/states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53Z</dcterms:created>
  <dc:creator>install</dc:creator>
  <dc:description/>
  <dc:language>en-US</dc:language>
  <cp:lastModifiedBy>install</cp:lastModifiedBy>
  <dcterms:modified xsi:type="dcterms:W3CDTF">2012-04-16T13:05:06Z</dcterms:modified>
  <cp:revision>9</cp:revision>
  <dc:subject/>
  <dc:title>Slide 1</dc:title>
</cp:coreProperties>
</file>